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5.png" ContentType="image/png"/>
  <Override PartName="/ppt/media/image28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6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0CEA-41FD-4E4C-BF5C-7FEEAED9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9117-AA40-4208-9E5E-4A286DA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22F8D-A3E2-435D-8D5B-51678EA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20E71-79CB-44FF-9809-D6DB22E4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99B2C-17D8-490B-8E4B-AC73F3D9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21A601-7500-4DFA-B01F-6E7D8153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A3464B-A044-40A3-81B4-C872D61D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C6BA-D50A-4CE2-8CC1-11CD8A0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8A842-09BB-4622-8FC1-1EC5DF66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2B93D-7720-4FEE-BDC2-26B59EAB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72F35-E947-41F7-B751-E1D26355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BBD-5018-4ED5-ACAB-7B1B841C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8F57-238C-42C0-8FBF-792CFA8B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B7A9-579E-4196-BB0F-FAF6C953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904E-8782-4C68-82F8-7F2F87E8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F88-88EA-4924-9E71-C3A9136D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C29B-B5A7-4684-8B96-57F7FA66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F93A-831E-45E0-B400-F946F89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5065-951C-45A3-A578-07A9E744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4C9F-C109-4F64-BCBD-1533980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2229-3A99-4EC0-A4B3-1A947E46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884-111B-4D97-B6CC-DDB5702B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A15-6AC4-4049-A1BC-B02704E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AB0F-F858-482C-9131-90F08F86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35F5-4F06-48D4-8574-A45E7856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748C-3653-4CD3-A854-7DEF5983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4761-B682-4F82-BB9B-EDE972C7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238B5-921D-4418-A170-CAB8B618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B0E0-DEEB-4306-B4BF-F34D0785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5FD3-0FD5-4F48-BD58-924C43A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A839-9330-4003-AAE9-8489489E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3DBA-F39A-4041-BC71-E8A92BF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5FEDD-1E0C-4919-9891-D995DB9F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7AD5A-A438-4487-83EC-FB2608E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36DB-42FA-4620-A7D8-14F69381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9BFA-D656-4ABB-9C86-1ADF1464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F404-9E48-451B-A262-B3F7B214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2DDA5-EBEC-4642-BAA7-83A33738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CECE-F039-43DB-A1F3-658FEEC4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7965B-FB3C-4DB3-AA71-8D27726C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1CB5-BC4D-4E88-A1A9-DB639755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6C3D-6339-42D6-8B19-08A909B4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1CD7-40E6-44EC-BA36-423A4A0F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6FB87-94DD-4473-9340-51CD7109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FEC0B-DED3-44CD-AC6A-9B59207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873E-CEA6-48C7-AA31-F3873C55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BAAB6-3A17-4843-88B5-C702B73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A74FC-2DD1-4507-BFEB-0F94539F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8FAD-C00F-4301-983B-6C711C52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CA9D7-8927-4670-9FE3-B1B7D98C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D8FF8-A867-4867-BB28-705EA0BC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BF5D2-5588-4CCD-8D32-39042535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3A94-8DD7-4071-A5DD-C5BBD5B6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F0B-6624-4242-ABD2-6721563F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5B7B-0C32-4696-A43D-CA28E4EF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E05A9-8D59-42F5-AFF8-298BE46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979B7-8B9F-4C9B-A0BA-EAEEEB6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1A9D-486C-4D9F-AE45-CD628273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D08D-2D1C-4AB2-B7A3-CA7E0CD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CB74-54DB-43D0-A16E-69F27D8A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78ADA-02B9-48E6-AFB7-9FFC1D59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91DE3-1235-4576-98A4-782450A6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6A176-5618-40EC-B057-99A45788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A4717-35AA-4206-82EA-DC9F7CBA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3EAD-DA71-4FEF-9E98-6CA24F8B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4D454-B74A-4933-B114-B991B035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D3231-9C24-4922-AF81-41EE60E6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1236D-1D20-4267-AA23-FA8531FD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6E65-6A11-4AFD-BA6B-77BF8DE6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8E8EE-5846-4999-BC9F-C9ABAEFE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14D6D-72CB-45E4-942C-6F62A4CB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4402-97B1-4E08-9EA1-75A33765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4A6B8-4DBB-40A1-8EE9-75A70B78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AD7E3-C45A-4FB3-9F66-70F42FDA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A52D5-203E-44CE-A114-2ACD2FA2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E89A-B57B-4E6C-9819-8943973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FB77-357B-4A8E-B595-C5B068F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8CC8B-94D6-4699-A5D3-4DF97DF2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A842E-9498-48F1-BB8A-5D2CB5946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6B6DA-0E25-40BB-AD96-A620F81A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20AC6-B6DD-4045-B189-C39A5AF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706BA-FEB6-40E5-B8A2-4A5EA239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4666B-673C-46D4-9713-2EA47A85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2F9F4-F079-4427-BA48-D0A74C73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BA35A-B229-4766-A385-CD9304B0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8A17C-3A69-4BA7-B20F-71F1557E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A7C-EDE3-4ACA-84E0-6C2C8CAD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03DC5-9D36-4FDA-AD2B-E1BFC01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2B21B-65BD-4A5D-8058-8DC02C1C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2D05E-01E5-4C6C-9160-085E697A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B2AD-66E0-4357-9D38-87583BC5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0318C-15E2-4F3B-B1FA-90C66DF1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470FB-86A8-49F0-9FE8-857A7EB4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C754E-4AE6-40D5-BE7B-F4A1B177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974D5-3740-430E-A41B-B8875D8A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2F5F-FCCB-43EF-8363-738317E4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35C57-4900-416B-ACAF-5366A471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5C44-B3F6-4D81-A4BB-FC7E212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FF6E1-0B21-4D1C-AC3C-BDC13E4E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A747D-2513-4A24-B6F3-7A0DC33F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E80A3-430A-43EE-BE63-DA408AD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ED6E0-A78B-40E3-BE63-EDE1CAD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405B9-1801-4409-994D-FECC8CDC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FB5AD-3A1F-4157-A6CB-39FC0004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8EEA4-6168-4B17-B6E8-9A9FB17D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47E1B9-3959-44AE-8B28-FD59EC668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0DEA8-0018-4B30-915B-FCD75B31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EDC72-D889-4EEA-A961-8C053223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23BC-B993-4BC0-BEA5-572F02D70A0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DFFB-7A2B-4560-9A3F-2E2EDC7DC2A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3DAC-D526-4902-9A42-52E40194268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4F79-E410-439E-B7BB-90B18CBE96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0A6F-CD70-490A-9915-1CB330C4308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EE5-2E95-46A9-8C83-ADA9C1C399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858-741C-4716-BC49-19D97F35EF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8A6A-D7DB-42E9-9FF8-B0ED6B4FAB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CD29-0E7E-4A47-9EE5-36E81A58EB2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5040" y="1219320"/>
            <a:ext cx="8729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0012-004-"/>
          <p:cNvPicPr/>
          <p:nvPr/>
        </p:nvPicPr>
        <p:blipFill>
          <a:blip r:embed="rId2"/>
          <a:stretch/>
        </p:blipFill>
        <p:spPr>
          <a:xfrm>
            <a:off x="1000080" y="1643040"/>
            <a:ext cx="7143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766360" cy="197640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4" descr="hello_html_m700b289f.jpg"/>
          <p:cNvPicPr/>
          <p:nvPr/>
        </p:nvPicPr>
        <p:blipFill>
          <a:blip r:embed="rId2"/>
          <a:stretch/>
        </p:blipFill>
        <p:spPr>
          <a:xfrm>
            <a:off x="1285920" y="2181240"/>
            <a:ext cx="6429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298440" y="23760"/>
            <a:ext cx="8699400" cy="19764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-360" y="1554120"/>
            <a:ext cx="8991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6" name="Рисунок 3" descr="Опыт по определению движения воздуха"/>
          <p:cNvPicPr/>
          <p:nvPr/>
        </p:nvPicPr>
        <p:blipFill>
          <a:blip r:embed="rId2"/>
          <a:stretch/>
        </p:blipFill>
        <p:spPr>
          <a:xfrm>
            <a:off x="285840" y="1571760"/>
            <a:ext cx="3929040" cy="3500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Рисунок 4" descr="Теплый воздух поднимается вверх"/>
          <p:cNvPicPr/>
          <p:nvPr/>
        </p:nvPicPr>
        <p:blipFill>
          <a:blip r:embed="rId3"/>
          <a:stretch/>
        </p:blipFill>
        <p:spPr>
          <a:xfrm>
            <a:off x="4500720" y="2214720"/>
            <a:ext cx="4214520" cy="378612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0" y="15336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2" name="Рисунок 20" descr="Воздушный шар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https://ds04.infourok.ru/uploads/ex/08a2/0014c921-306b5bad/img42.jpg"/>
          <p:cNvPicPr/>
          <p:nvPr/>
        </p:nvPicPr>
        <p:blipFill>
          <a:blip r:embed="rId2"/>
          <a:stretch/>
        </p:blipFill>
        <p:spPr>
          <a:xfrm>
            <a:off x="142920" y="428760"/>
            <a:ext cx="86439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81160" y="79200"/>
            <a:ext cx="8697600" cy="1268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28760" y="1357200"/>
            <a:ext cx="82152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вкус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запах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Не имеет цвета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розрачен;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e3b30"/>
                </a:solidFill>
                <a:latin typeface="Franklin Gothic Book"/>
              </a:rPr>
              <a:t>Плохо проводит тепло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WordArt 29"/>
          <p:cNvSpPr txBox="1"/>
          <p:nvPr/>
        </p:nvSpPr>
        <p:spPr>
          <a:xfrm>
            <a:off x="0" y="457200"/>
            <a:ext cx="499104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03" name="Rectangle 4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2557440" y="1389960"/>
            <a:ext cx="402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48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493560"/>
            <a:ext cx="869976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1. Исследовать   …………….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244440"/>
            <a:ext cx="8699400" cy="1717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1. Исследовать свойства воздух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1.Необходимо бережно относиться</a:t>
            </a:r>
            <a:r>
              <a:rPr b="0" lang="en-US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 всем приборам. Их можно не только разбить, ими можно поранить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2.Во время работы можно не только сидеть, но и стоять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3. Опыт проводит один из учеников, остальные молча наблюдают и помогают только по его просьбе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4.Переговариваться друг с другом нужно тихо, не мешая остальным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" descr="hello_html_576b1f6e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722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714920" cy="485784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3" descr="Водолазный колокол"/>
          <p:cNvPicPr/>
          <p:nvPr/>
        </p:nvPicPr>
        <p:blipFill>
          <a:blip r:embed="rId3"/>
          <a:stretch/>
        </p:blipFill>
        <p:spPr>
          <a:xfrm>
            <a:off x="5500800" y="1428840"/>
            <a:ext cx="30718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99400" cy="14875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00040" y="1928520"/>
            <a:ext cx="8491680" cy="415116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2" descr="hello_html_4aaf4703.jpg"/>
          <p:cNvPicPr/>
          <p:nvPr/>
        </p:nvPicPr>
        <p:blipFill>
          <a:blip r:embed="rId3"/>
          <a:stretch/>
        </p:blipFill>
        <p:spPr>
          <a:xfrm>
            <a:off x="928800" y="1928880"/>
            <a:ext cx="7000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30" descr="Аппарат искусственной вентиляции легких"/>
          <p:cNvPicPr/>
          <p:nvPr/>
        </p:nvPicPr>
        <p:blipFill>
          <a:blip r:embed="rId3"/>
          <a:stretch/>
        </p:blipFill>
        <p:spPr>
          <a:xfrm>
            <a:off x="6000840" y="1285920"/>
            <a:ext cx="2928960" cy="2786040"/>
          </a:xfrm>
          <a:prstGeom prst="rect">
            <a:avLst/>
          </a:prstGeom>
          <a:ln w="0">
            <a:noFill/>
          </a:ln>
        </p:spPr>
      </p:pic>
      <p:pic>
        <p:nvPicPr>
          <p:cNvPr id="423" name="Рисунок 31" descr="Книгопечатание"/>
          <p:cNvPicPr/>
          <p:nvPr/>
        </p:nvPicPr>
        <p:blipFill>
          <a:blip r:embed="rId4"/>
          <a:stretch/>
        </p:blipFill>
        <p:spPr>
          <a:xfrm>
            <a:off x="2928960" y="4786200"/>
            <a:ext cx="2719440" cy="192888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26" descr="Состав метро"/>
          <p:cNvPicPr/>
          <p:nvPr/>
        </p:nvPicPr>
        <p:blipFill>
          <a:blip r:embed="rId5"/>
          <a:stretch/>
        </p:blipFill>
        <p:spPr>
          <a:xfrm>
            <a:off x="6286680" y="4286160"/>
            <a:ext cx="2566800" cy="185760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27" descr="Труба"/>
          <p:cNvPicPr/>
          <p:nvPr/>
        </p:nvPicPr>
        <p:blipFill>
          <a:blip r:embed="rId6"/>
          <a:stretch/>
        </p:blipFill>
        <p:spPr>
          <a:xfrm>
            <a:off x="3357720" y="3786120"/>
            <a:ext cx="2286000" cy="78120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29" descr="Барабан"/>
          <p:cNvPicPr/>
          <p:nvPr/>
        </p:nvPicPr>
        <p:blipFill>
          <a:blip r:embed="rId7"/>
          <a:stretch/>
        </p:blipFill>
        <p:spPr>
          <a:xfrm>
            <a:off x="357120" y="3643200"/>
            <a:ext cx="1571760" cy="150048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28" descr="Гармонь"/>
          <p:cNvPicPr/>
          <p:nvPr/>
        </p:nvPicPr>
        <p:blipFill>
          <a:blip r:embed="rId8"/>
          <a:stretch/>
        </p:blipFill>
        <p:spPr>
          <a:xfrm>
            <a:off x="428760" y="5143680"/>
            <a:ext cx="2000160" cy="140004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25" descr="Троллейбус"/>
          <p:cNvPicPr/>
          <p:nvPr/>
        </p:nvPicPr>
        <p:blipFill>
          <a:blip r:embed="rId9"/>
          <a:stretch/>
        </p:blipFill>
        <p:spPr>
          <a:xfrm>
            <a:off x="3286080" y="1500120"/>
            <a:ext cx="2571840" cy="2214720"/>
          </a:xfrm>
          <a:prstGeom prst="rect">
            <a:avLst/>
          </a:prstGeom>
          <a:ln w="0">
            <a:noFill/>
          </a:ln>
        </p:spPr>
      </p:pic>
      <p:pic>
        <p:nvPicPr>
          <p:cNvPr id="429" name="Рисунок 24" descr="Велосипедное колесо"/>
          <p:cNvPicPr/>
          <p:nvPr/>
        </p:nvPicPr>
        <p:blipFill>
          <a:blip r:embed="rId10"/>
          <a:stretch/>
        </p:blipFill>
        <p:spPr>
          <a:xfrm>
            <a:off x="714240" y="1428840"/>
            <a:ext cx="2067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6T19:43:25Z</dcterms:created>
  <dc:creator>Марина Микрюкова</dc:creator>
  <dc:description/>
  <dc:language>en-US</dc:language>
  <cp:lastModifiedBy>Марина Микрюкова</cp:lastModifiedBy>
  <dcterms:modified xsi:type="dcterms:W3CDTF">2019-12-12T21:51:08Z</dcterms:modified>
  <cp:revision>8</cp:revision>
  <dc:subject/>
  <dc:title>СРАВНЕНИЕ  ТРЁХЗНАЧНЫХ ЧИСЕЛ 2 КЛАСС ПНШ</dc:title>
</cp:coreProperties>
</file>